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891145"/>
        <c:axId val="30393191"/>
      </c:barChart>
      <c:catAx>
        <c:axId val="23891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93191"/>
        <c:crosses val="autoZero"/>
        <c:auto val="1"/>
        <c:lblAlgn val="ctr"/>
        <c:lblOffset val="100"/>
        <c:noMultiLvlLbl val="0"/>
      </c:catAx>
      <c:valAx>
        <c:axId val="30393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91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B09-A42C-458B-8888-A4BBB25D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2DC-60A8-4F7D-AFBC-75F90A11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D0B-1EFC-49E9-828F-1A14D291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12F5-10DB-4A6F-B72B-2F6CBD24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3313-366A-41EC-A0C2-73E27F30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566-4452-4362-8BA2-BE1899CC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9E19-3EEC-4CCF-AB0A-0B6FEF65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B09-0EFC-4F05-B4DC-3F313A1F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7560-BAFC-424F-A869-350B3DF8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833-C8A3-49D5-A99B-A51B1A39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555-6D1D-49E2-A482-2E645389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275-6394-474E-8CAD-0DE0186F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ED116-E3F8-446C-9B8B-C04C3F124C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