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8076"/>
        <c:axId val="87232101"/>
      </c:barChart>
      <c:catAx>
        <c:axId val="8978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32101"/>
        <c:crosses val="autoZero"/>
        <c:auto val="1"/>
        <c:lblAlgn val="ctr"/>
        <c:lblOffset val="100"/>
        <c:noMultiLvlLbl val="0"/>
      </c:catAx>
      <c:valAx>
        <c:axId val="87232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8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55F-D94B-4B5A-9A84-7D4B824E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D23-54FB-4BD4-8BFF-3BF2663C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AAB-AA4B-4D22-AAEE-741551E4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353-4D4A-4E8A-A0F7-BC345C9A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027-AE0D-4D3C-AA07-0A53375A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E61-8A55-458B-BF61-52DE9123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F03-3A87-4A3A-856B-0D3FDDE7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26D-2151-4C2A-BC6F-F454BBDD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0D3-35FE-432A-BA7E-94BB3AEB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27C-D738-4665-AC40-98940E78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2B2-49FB-4D08-B219-AED4C50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0FF-388B-4632-BB88-15D84B72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637D2-F7A4-4374-A9E4-57DB832793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