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79222"/>
        <c:axId val="57972675"/>
      </c:barChart>
      <c:catAx>
        <c:axId val="12479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2675"/>
        <c:crosses val="autoZero"/>
        <c:auto val="1"/>
        <c:lblAlgn val="ctr"/>
        <c:lblOffset val="100"/>
        <c:noMultiLvlLbl val="0"/>
      </c:catAx>
      <c:valAx>
        <c:axId val="57972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79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5EA-C989-49EC-83BD-446BC14B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5FA-609D-4A4E-A661-C78C0FF4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C1C-12DA-4232-B9F6-AC68B5C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374-B3ED-4688-811F-0A0F894B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0E6-D815-49DC-8D16-0C0E754A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4DF-80F8-4851-A68A-C4239838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D12-91AD-48DE-BC86-123511E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60B-385D-41E4-BA8C-DCBCA0A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651-5C9F-487F-B595-6B02443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4C2-6AB4-4891-9A0A-9A45CD5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E9C-F625-445F-BE9F-7A8A1D2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46A-70B8-4443-A61B-7359ED4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DE1C0-2833-4B0E-81B2-BFB3FEBFF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