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4692"/>
        <c:axId val="75139261"/>
      </c:barChart>
      <c:catAx>
        <c:axId val="1294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9261"/>
        <c:crosses val="autoZero"/>
        <c:auto val="1"/>
        <c:lblAlgn val="ctr"/>
        <c:lblOffset val="100"/>
        <c:noMultiLvlLbl val="0"/>
      </c:catAx>
      <c:valAx>
        <c:axId val="75139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4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2A6-0CD9-4B3E-8683-3FD10426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E71-9675-4BA7-980D-E6B5C2D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BE8-8080-4E2E-ACC3-ED82F0BC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0EB-4362-46A1-ADAB-918FFD21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06D-9235-4410-BA04-02774D73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FF8-9A47-490C-ACD0-F6A5CD09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A76-88E1-4984-8553-11F05813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238D-5057-448B-87DA-632551E4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B11-13BD-4F3A-8BAA-6A53CF38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D3C-5695-44F9-9435-34530FE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4F9-A542-48EC-8D23-489BDB5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A4E-6650-445E-AAB7-17724F32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FF462-6B8A-4A16-B28B-EDA2F6B2BC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