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610139"/>
        <c:axId val="72637051"/>
      </c:barChart>
      <c:catAx>
        <c:axId val="616101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37051"/>
        <c:crosses val="autoZero"/>
        <c:auto val="1"/>
        <c:lblAlgn val="ctr"/>
        <c:lblOffset val="100"/>
        <c:noMultiLvlLbl val="0"/>
      </c:catAx>
      <c:valAx>
        <c:axId val="72637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101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49DB-4428-497B-9F97-2C591F53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9D69-78D2-48DA-A9ED-705B37F6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C4A3-8AE7-42A7-AAFC-7E3552CA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6B41-C452-4C23-8E67-7AD560A1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7664-345B-4B57-BB10-5DBDD7CE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ED12-8F93-4383-84C4-34D53E87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D637-DC2B-4B6E-B805-989D1783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F50E-0AD7-4D11-8F26-29A97C9B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53C5-E7B2-4BFA-ACB3-2238264C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E09E-AE74-4C82-BE70-90B58559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9C50-914E-4567-BCE3-011C61DC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BECF-CAA2-454B-A81D-E9AE3A1B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D6C9C-9CA1-448A-A4CE-48DE0BE9B6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