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01189"/>
        <c:axId val="94982239"/>
      </c:barChart>
      <c:catAx>
        <c:axId val="15101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82239"/>
        <c:crosses val="autoZero"/>
        <c:auto val="1"/>
        <c:lblAlgn val="ctr"/>
        <c:lblOffset val="100"/>
        <c:noMultiLvlLbl val="0"/>
      </c:catAx>
      <c:valAx>
        <c:axId val="94982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01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E1D-A05C-4381-8C63-04DAC230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EEC-3869-475A-897D-7B921664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625-EEB4-4ACF-87C9-9597F471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1CD-51EF-4173-9A24-4AE8AC19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B41-3C49-41B1-BD50-622F1FC2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CF5-5D9A-480F-A448-443A933E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657-53AA-4D08-AA39-2CCD9D6E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C57-6DB1-4B71-9F5C-A442F69C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8C0-5295-4996-A98D-7071C7C0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E19-4617-427E-9257-6D40BEF8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63B-941C-494E-9F45-7E0569F7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B3B-A663-42C5-AF09-D079EB46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AA08A-86A7-4574-9E21-935FC3DA12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