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02058"/>
        <c:axId val="6259416"/>
      </c:barChart>
      <c:catAx>
        <c:axId val="9960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9416"/>
        <c:crosses val="autoZero"/>
        <c:auto val="1"/>
        <c:lblAlgn val="ctr"/>
        <c:lblOffset val="100"/>
        <c:noMultiLvlLbl val="0"/>
      </c:catAx>
      <c:valAx>
        <c:axId val="6259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C22-3FE1-4FC4-8F01-54C9DC3C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89E-0A4D-467D-BB65-6EDDC992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9BA-31D1-42C6-976A-6519310F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61E-1D19-4DDD-BB94-DCCC34C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394-11C2-499B-87A8-BD6F7EE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CB3-8BDD-463F-9154-71DC05E8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780-59FF-4D14-8F29-085D054B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C8B-0D2A-4B2E-A828-E000948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CC9-45C0-48DF-BDA0-292CDF97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938-46CF-444D-9EAA-9FF862D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E7C-E22E-4DD9-8652-059D489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6EE-5B31-4C2D-A918-FA7F90A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03F5-A2CC-4194-A558-CBEA16C8AB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