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12131"/>
        <c:axId val="15362489"/>
      </c:barChart>
      <c:catAx>
        <c:axId val="28712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62489"/>
        <c:crosses val="autoZero"/>
        <c:auto val="1"/>
        <c:lblAlgn val="ctr"/>
        <c:lblOffset val="100"/>
        <c:noMultiLvlLbl val="0"/>
      </c:catAx>
      <c:valAx>
        <c:axId val="15362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12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047-47C8-4EB6-986E-EA84762D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034-DD00-40AB-B8DF-220CC88A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DD2-44AF-42A9-93DA-B593830A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EC0-B1E5-42DC-8283-77C2F46A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3AA-8495-41B4-B4F3-9110A70F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76E-3829-4134-AC68-CB3859B0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54F-9B6E-4015-B3BF-03101B6C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644-AA2F-4B5E-8F4C-D3A35890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DA2-060E-4C5F-A695-5261ACF7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8FF-0002-42F5-BC0E-7392AEB8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CC4-764A-4C54-8884-89FF0769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E39-1B49-41B1-A1D4-AAFE3809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E1BF8-F9F6-4160-A661-B6521AB0D7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