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29057"/>
        <c:axId val="81084058"/>
      </c:barChart>
      <c:catAx>
        <c:axId val="14329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84058"/>
        <c:crosses val="autoZero"/>
        <c:auto val="1"/>
        <c:lblAlgn val="ctr"/>
        <c:lblOffset val="100"/>
        <c:noMultiLvlLbl val="0"/>
      </c:catAx>
      <c:valAx>
        <c:axId val="81084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29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A7B-642C-4815-9AD8-486ECEE0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BB9-7C52-4FE7-86A9-652ACC4C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19B-5802-447D-9CD8-AC6F8D47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318-C6AD-413A-AF42-5D576212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B5B-683B-4496-982B-6F0CE3E2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CEA-AA34-44B7-8A9A-2F160823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279-676F-447A-BBFB-8FEF7A8C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7DA-368C-4D51-ABFF-B5F1F897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2F0-A045-4B34-AF78-98E98608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925-1662-48E2-93BD-6B472E06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974-6A6F-4D3B-A7E8-A891BE6B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437-F719-4E64-9BD2-796460AD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F33B1-CDC6-4930-B507-6D80C5ED31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