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38248"/>
        <c:axId val="66946538"/>
      </c:barChart>
      <c:catAx>
        <c:axId val="36738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46538"/>
        <c:crosses val="autoZero"/>
        <c:auto val="1"/>
        <c:lblAlgn val="ctr"/>
        <c:lblOffset val="100"/>
        <c:noMultiLvlLbl val="0"/>
      </c:catAx>
      <c:valAx>
        <c:axId val="66946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38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E273-9B0F-47CF-BC8F-CDB107D2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C78-A680-4E6C-87C1-40326F52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514-F7D3-44AB-912D-08182939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FBA-7606-4945-97C5-4B25E401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5B8-BE35-4CB7-99A5-A8134BC1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337-85E7-4CAA-8AA0-50C6530B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918-3FC8-480D-8171-C2B5482E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56A-95DD-4D39-BF98-B4FB0B81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D37-F119-4D50-B473-DF3DA03D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F42-4F9A-493A-8805-A5A1D80C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94B-B282-4410-89CE-F3E9ACB8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CE9-6417-462A-8643-29D53C2E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9C90E-DACC-4F46-B992-4F80A0CC91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