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102255"/>
        <c:axId val="51239094"/>
      </c:barChart>
      <c:catAx>
        <c:axId val="331022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239094"/>
        <c:crosses val="autoZero"/>
        <c:auto val="1"/>
        <c:lblAlgn val="ctr"/>
        <c:lblOffset val="100"/>
        <c:noMultiLvlLbl val="0"/>
      </c:catAx>
      <c:valAx>
        <c:axId val="512390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1022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F61C-117A-4997-A6F1-1E4D538E3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123E-8205-441C-92F2-4FFAE2F0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04F2-A8B2-42AC-A9EC-CA8F887F6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6B54-18EC-495B-A907-6C88A4E41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CFCF-666A-4810-BA1A-E2959D91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138F-4C1E-4E5C-B6C1-C11223A3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07AF-6F32-4CDA-8D5D-C54FA6C6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EBD5-A42C-4055-8D86-92A79EDE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E437-71C5-4935-9461-16DD583A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C8E0-370E-4601-8C2B-44B8C730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5694-A85F-4807-A84B-A8E4E859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0E2D-F40B-4943-8FB5-6A89DF14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76D1A9-2706-4938-B860-AD20D67C35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