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23449"/>
        <c:axId val="90292827"/>
      </c:barChart>
      <c:catAx>
        <c:axId val="71423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2827"/>
        <c:crosses val="autoZero"/>
        <c:auto val="1"/>
        <c:lblAlgn val="ctr"/>
        <c:lblOffset val="100"/>
        <c:noMultiLvlLbl val="0"/>
      </c:catAx>
      <c:valAx>
        <c:axId val="90292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23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326-F48A-4E90-A0C8-6FCB7740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993-F3DF-4282-A78B-B35DEB9A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20D-61AA-467B-96F0-42F92D47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352-F39C-4040-885A-47547D5A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4F6-1874-4CDC-8CA3-506E4214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B51-BBEE-4AB0-9778-B6085C3D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FF3-7733-4D12-AAB8-77019417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93A-E395-43CE-98A5-35553EF6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04E-BCA5-4FF1-8062-373B9447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306-85A6-4120-B944-37F5A2C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BCF-3C92-41AC-AC19-9EE180C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DBA-8729-44D1-97CB-D1B089E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9F3DA-472F-4EA4-9DAB-713F812A46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