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83812"/>
        <c:axId val="81885621"/>
      </c:barChart>
      <c:catAx>
        <c:axId val="35383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85621"/>
        <c:crosses val="autoZero"/>
        <c:auto val="1"/>
        <c:lblAlgn val="ctr"/>
        <c:lblOffset val="100"/>
        <c:noMultiLvlLbl val="0"/>
      </c:catAx>
      <c:valAx>
        <c:axId val="81885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83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D85-526C-4A20-91E9-A81E53C2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BA3-BCA9-4593-86C0-79DBB3AC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C1D-13C1-48E2-BDF8-1694D197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B27-D5BB-49D9-8F3C-9833A1AD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EB9-0BD4-4533-BDB6-6B123D5D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4D1-25B4-48BF-9838-8483781B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090-5039-4F4B-8D78-60ED2A14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241-4691-47D3-9588-046DB5CE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B73-BF36-43ED-8623-F22C6FD7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272-1C6B-4C6E-95CC-C6102E26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F31-9AA6-47A0-9C13-C420CAC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C39-9E71-49FB-A793-17D21C2F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ECDC5-93C4-41EB-AFED-241C44CDB5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