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814058"/>
        <c:axId val="76673225"/>
      </c:barChart>
      <c:catAx>
        <c:axId val="858140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673225"/>
        <c:crosses val="autoZero"/>
        <c:auto val="1"/>
        <c:lblAlgn val="ctr"/>
        <c:lblOffset val="100"/>
        <c:noMultiLvlLbl val="0"/>
      </c:catAx>
      <c:valAx>
        <c:axId val="766732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8140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F08D-4069-48C0-88CF-AB59F8DF2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6F45-9E19-43BD-AF37-FD9E539C5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9EAE-2E5D-4DEA-A27E-FEEB890BA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1917-462D-48B1-86FE-E95B86FAB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03B1-8C66-4270-9751-5F8C7C950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8143-DA58-450D-A038-FF4AC9AAF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4AB6-4F1C-49E5-A76E-27EA8D355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24E7-6502-4B6F-9BB3-B364DE8C8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8ABF-449E-4AEA-A4DF-38A9CB4F0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9CA3-4291-4E98-A762-FF3BD39B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1F72-7B64-401B-B0F4-5B0D032B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80E1-0C90-44F2-8114-4FCA990A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381029-C906-4BBA-99D7-DE48A9E24D7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