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52227"/>
        <c:axId val="53255578"/>
      </c:barChart>
      <c:catAx>
        <c:axId val="11752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55578"/>
        <c:crosses val="autoZero"/>
        <c:auto val="1"/>
        <c:lblAlgn val="ctr"/>
        <c:lblOffset val="100"/>
        <c:noMultiLvlLbl val="0"/>
      </c:catAx>
      <c:valAx>
        <c:axId val="53255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2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365-3C0D-4CE2-9B70-147A7299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865-0FF3-42AB-9532-90A7277E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E82-CD1B-4909-BA79-19B88D7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5FE-67CC-4DFE-B68F-D1564464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2FD-0898-4D72-BAF2-578F1AE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E28-C983-4132-BDB2-B496398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BB8-0555-48A5-AAB8-536D5E49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842-9629-4ED1-A416-4AF66363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C21-B20A-4F35-B3AC-F18CD34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056-6E0C-45ED-A943-BDB9EEF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682-553B-4AA0-9327-6EBF8C1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66E-4731-45A8-B1C4-6B6158B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98E34-E65C-4FCF-89C0-9ABEE8213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