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66556"/>
        <c:axId val="67790787"/>
      </c:barChart>
      <c:catAx>
        <c:axId val="37966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90787"/>
        <c:crosses val="autoZero"/>
        <c:auto val="1"/>
        <c:lblAlgn val="ctr"/>
        <c:lblOffset val="100"/>
        <c:noMultiLvlLbl val="0"/>
      </c:catAx>
      <c:valAx>
        <c:axId val="67790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66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6C7-CF34-49A4-88E9-ECBA0F9E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D1F-0BB2-4A93-BD32-D98134AD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D79-0E85-4ACA-BE96-332B0530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832-3AED-4D16-9CAF-1F00ED5E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8CD-6213-4747-81AA-B94BE964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251-8AB0-4BBA-998C-25EA63C5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60B-DBAD-452C-80DC-3CEB37C9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A2D-446C-44E4-BE01-4AD53E4C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5B1-BE9D-4724-B52E-CA6ABFA3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558-B475-431B-BC8F-D5753018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08C-067C-4408-B27C-2E261023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7EC-2ED6-4526-8466-DBF010EA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4B7FD-90FC-46BA-A6C7-C154192F02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