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52779"/>
        <c:axId val="1160891"/>
      </c:barChart>
      <c:catAx>
        <c:axId val="79952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0891"/>
        <c:crosses val="autoZero"/>
        <c:auto val="1"/>
        <c:lblAlgn val="ctr"/>
        <c:lblOffset val="100"/>
        <c:noMultiLvlLbl val="0"/>
      </c:catAx>
      <c:valAx>
        <c:axId val="1160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52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4F-F6BD-487B-B73D-81D23EE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17E-A4A0-46D0-9A66-ABBC1225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90E-D5B4-4D95-A3D8-65203CAA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6A1-8F3E-4904-9A69-DD47371E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7F0-5F35-42DF-9324-3DEFB72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3E6-1EB8-4724-AED7-5C58B24A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34F-1CBC-46CF-BF66-82C1D90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39C-290C-438F-9232-8FBC1F6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34F-A295-4DC5-A574-D10D346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A99-EA7C-4A0B-AB9A-FCF7B13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ABC-26EE-470E-95C4-6726035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AA0-9064-4ADB-90CB-0EB397A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8B7FE-E7C0-4D8E-9979-31948617F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