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33610"/>
        <c:axId val="60257601"/>
      </c:barChart>
      <c:catAx>
        <c:axId val="99633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57601"/>
        <c:crosses val="autoZero"/>
        <c:auto val="1"/>
        <c:lblAlgn val="ctr"/>
        <c:lblOffset val="100"/>
        <c:noMultiLvlLbl val="0"/>
      </c:catAx>
      <c:valAx>
        <c:axId val="60257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33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B2E7-E12B-48F2-B420-DF59A3F4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11A-4C03-44D2-B8E8-637A2090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7C6-2552-456C-B030-F702720E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733-F47A-4509-A285-8FFE6F5B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95A-4B3D-4327-90FF-F8EC5750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EE3-F732-4DB7-959E-25B7BF28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B9A-658F-4C18-9E44-475F4D98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55C-69E0-45D7-90BC-1B394115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AB5-2BCA-44E7-9EF7-10F5767C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0A8-B95D-45A9-A7D9-65E1956E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3EB-A9CF-4954-BB5E-F5E8A9C7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D3D-AD8F-491C-99E9-17736057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D411B-702E-4E93-AF69-C88F0F6A70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