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51284"/>
        <c:axId val="99921569"/>
      </c:barChart>
      <c:catAx>
        <c:axId val="73251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21569"/>
        <c:crosses val="autoZero"/>
        <c:auto val="1"/>
        <c:lblAlgn val="ctr"/>
        <c:lblOffset val="100"/>
        <c:noMultiLvlLbl val="0"/>
      </c:catAx>
      <c:valAx>
        <c:axId val="99921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51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0D6-EDBE-4483-87D8-501B97A5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0C1-EAB6-44C8-A280-6F29B63A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BDB-3640-4652-9792-85E6F952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1FF5-2728-4C1F-8446-0C61C2A3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D93-71A4-418E-87B3-F3ADE709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A1A-9984-460A-B8B7-6122245F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E07-DAB1-498D-AB07-50C0EED3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AD9-3665-4741-8335-B018C71E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CCE-4FAD-49CF-BFFD-AE6BDEF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01B7-51A1-45FB-B834-76287C32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1EC-66E8-4C90-9216-D701088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38C-8E79-4C1F-A3AA-22884F2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744AE-211C-467B-83E0-1911CFE828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