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52734"/>
        <c:axId val="1949190"/>
      </c:barChart>
      <c:catAx>
        <c:axId val="64752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9190"/>
        <c:crosses val="autoZero"/>
        <c:auto val="1"/>
        <c:lblAlgn val="ctr"/>
        <c:lblOffset val="100"/>
        <c:noMultiLvlLbl val="0"/>
      </c:catAx>
      <c:valAx>
        <c:axId val="1949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2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ECB-7877-4DDA-AD84-0B8944E9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1FC-8411-45B1-85DC-2DBDCBB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3FE-6282-4A38-AE73-E1D567EB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81D-42A3-40D8-BCE5-F849A379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B70-C46D-463F-A731-ECAE8DDC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420-FFC6-432D-ABCD-3B82B617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929-4B2A-4EF5-9A18-CA93C41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E6C-E465-4C93-B6A0-30EC19ED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30C-9FC2-4C98-8D9B-BB9FE58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FE0-FF5E-4750-844B-653C25A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43F-9F92-4725-AEB1-4C3CA22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B4E-692E-475E-A070-0CBF8FF3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D0B5A-487C-4B1C-9181-5E15BAE525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