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40430"/>
        <c:axId val="71026043"/>
      </c:barChart>
      <c:catAx>
        <c:axId val="91440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26043"/>
        <c:crosses val="autoZero"/>
        <c:auto val="1"/>
        <c:lblAlgn val="ctr"/>
        <c:lblOffset val="100"/>
        <c:noMultiLvlLbl val="0"/>
      </c:catAx>
      <c:valAx>
        <c:axId val="71026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40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8F4-77D2-48F2-9157-A419FCC4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782-2F96-40E0-940C-9E8D224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F80-6A5D-439C-8EB4-735E9F49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39B-6B60-4724-A8A2-C1662F60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7CE-721E-48B4-BE77-A2FFDE0A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678-E561-498B-B84C-DE90855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7A9-16EF-432D-A24A-5E84AEA9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9AA-6D48-41C5-A5AA-6CF6F9EF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7A2-A095-4622-893F-6F38A48F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D3A-F0FA-4AF3-89A1-A38B6A79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19A-5F0F-46AB-8688-43E3D61C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E21-8640-4016-B4F5-7E8E37BE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420F6-2749-4EB5-84C6-3766FF0F4E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