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53019"/>
        <c:axId val="62157100"/>
      </c:barChart>
      <c:catAx>
        <c:axId val="65053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57100"/>
        <c:crosses val="autoZero"/>
        <c:auto val="1"/>
        <c:lblAlgn val="ctr"/>
        <c:lblOffset val="100"/>
        <c:noMultiLvlLbl val="0"/>
      </c:catAx>
      <c:valAx>
        <c:axId val="62157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53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639-2E09-4697-9B75-35A9A22D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083-A716-4F1E-86C9-DBFE2A9F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589-14F6-4DF4-8D32-342FCB20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725-DB66-4ADF-9892-527E4BF77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4F46-267D-4E4A-9D2A-907625F8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C9A-2141-44A2-8CF9-5995BAE4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6FB-8305-41FE-B976-A93EF2DA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C8E-F42F-4DA3-9AFD-EB45881D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2ED-8EE9-411E-8055-4BB18D0D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5AA-BA4B-42FB-B8EA-B475508D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9B4-4D76-477B-ACD1-E1540B25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8B83-FA1E-4326-B7F3-88AC6E49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C05E0-6E8F-4730-886F-4FA336C804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