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4591"/>
        <c:axId val="90403876"/>
      </c:barChart>
      <c:catAx>
        <c:axId val="1354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03876"/>
        <c:crosses val="autoZero"/>
        <c:auto val="1"/>
        <c:lblAlgn val="ctr"/>
        <c:lblOffset val="100"/>
        <c:noMultiLvlLbl val="0"/>
      </c:catAx>
      <c:valAx>
        <c:axId val="90403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4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B44-6793-4DB6-87EA-B135A2C5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2F4-6F2A-4FFA-B479-36DD218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BF5-7F2B-4FF2-8CCE-2DB96A12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627-4012-436C-98B6-00F0ECA9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70D-130E-4F26-843D-A053822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A9B-8B7E-4BE5-B19A-4925CE1C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282-0408-4124-BAD8-472B4CA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09E-2FC7-452E-824E-588B657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B2E-C02B-49C1-864A-F406B25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1CE-C61B-4A68-B656-99116937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17D-64C2-41A8-8962-FF81E12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2FF-5F8D-4FA2-9A21-86E4D7B6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A5A6-305C-4E16-B01E-7D1EA4031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