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02194"/>
        <c:axId val="43029105"/>
      </c:barChart>
      <c:catAx>
        <c:axId val="18502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29105"/>
        <c:crosses val="autoZero"/>
        <c:auto val="1"/>
        <c:lblAlgn val="ctr"/>
        <c:lblOffset val="100"/>
        <c:noMultiLvlLbl val="0"/>
      </c:catAx>
      <c:valAx>
        <c:axId val="43029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02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278-9A99-4A4B-87F9-A6FDE9AC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434-073A-4FF1-9E14-E17F9854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9FF-4659-42C8-92F5-58F736F6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366-89A1-41D3-89E9-F4F51D9D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D67-9223-4425-A392-4EF7EBAE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6FF-E7B5-406B-86E7-9A162D09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201-2982-450F-8601-3B3EDB96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E5F-F301-4454-B8FB-C0604A1F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176-5EDB-42A1-805B-7154FAF8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E03-FCA2-432C-B74D-BF00C993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242-8FDB-4BF4-9B9A-B294F918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C84-750E-4535-8E19-26E78DD8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CA162-C6CC-471B-AC57-0EBEA6918D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