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46708"/>
        <c:axId val="24417335"/>
      </c:barChart>
      <c:catAx>
        <c:axId val="43746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17335"/>
        <c:crosses val="autoZero"/>
        <c:auto val="1"/>
        <c:lblAlgn val="ctr"/>
        <c:lblOffset val="100"/>
        <c:noMultiLvlLbl val="0"/>
      </c:catAx>
      <c:valAx>
        <c:axId val="24417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46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692-17DB-4B8C-B3BE-52431F49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B25-899B-40C3-8A60-81268701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5FE-21EE-4E49-AF10-5250AED9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8C4-F899-42FA-9EC3-100C4BF1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EAC-3CFB-4BCD-AEF6-4E868F5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C7B-FBE4-430B-9B80-1D9FD57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4F2-5A78-4B43-919E-D78074C0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4A6-A6DA-410D-8C4D-06E31FD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B3F-952E-41F7-AFBE-9E067449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FBF-B31A-40CC-9DEF-0B40ED35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628-A5F2-462E-8093-6679D33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44A-8974-4385-834E-1C65BF7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F8E91-A29B-4840-84B0-51E70F81B5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