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08914"/>
        <c:axId val="54561454"/>
      </c:barChart>
      <c:catAx>
        <c:axId val="83908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1454"/>
        <c:crosses val="autoZero"/>
        <c:auto val="1"/>
        <c:lblAlgn val="ctr"/>
        <c:lblOffset val="100"/>
        <c:noMultiLvlLbl val="0"/>
      </c:catAx>
      <c:valAx>
        <c:axId val="54561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8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A77-9AFE-4A74-B5A2-7557C72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0D4-7181-4044-B6F7-FE0E236F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968-ECC1-4358-973D-54728374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B8C-A8D8-4E0F-A1BD-0962CA0F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776-CDE9-4FC1-864B-DE0857F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F63-1C5E-4D3D-AF14-DE41FBF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8F6-85E7-4450-9CD0-834EECA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60C-5C3F-44C2-BDD1-BE20E83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1AC-E30F-4021-8834-F2A094AA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A7E-D32F-4EAF-BC6B-09E8C53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2C2-3093-4239-AA30-0A2EE11E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F3A-5524-4B8A-96F3-19DE73A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D6FF1-AD70-45FC-858D-89CA2FA66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