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75282"/>
        <c:axId val="98682707"/>
      </c:barChart>
      <c:catAx>
        <c:axId val="126752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82707"/>
        <c:crosses val="autoZero"/>
        <c:auto val="1"/>
        <c:lblAlgn val="ctr"/>
        <c:lblOffset val="100"/>
        <c:noMultiLvlLbl val="0"/>
      </c:catAx>
      <c:valAx>
        <c:axId val="98682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752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9EA-CE85-45C1-BA74-056603E7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184-1696-49BD-8B1D-53AE417D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BE4-BAC5-4CD0-98B5-584B961F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29E-0582-48D8-97D7-2EA18BF9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D7F-713F-422B-B78C-4572E178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4E4-3964-4C5F-B0D6-AF80B7C4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B30-AEF0-4801-B70D-981AB81E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B19-D362-41E9-865A-F408AC69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165-7EF9-4944-A290-ED70AD46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0C8-73D6-4E02-BD44-378669B1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DDF-9E61-4580-8F1C-A758401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022-6D7A-445F-9A43-623E623B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122B0-66FE-4C99-A29C-D5CC102EF9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