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06024"/>
        <c:axId val="46843566"/>
      </c:barChart>
      <c:catAx>
        <c:axId val="987060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43566"/>
        <c:crosses val="autoZero"/>
        <c:auto val="1"/>
        <c:lblAlgn val="ctr"/>
        <c:lblOffset val="100"/>
        <c:noMultiLvlLbl val="0"/>
      </c:catAx>
      <c:valAx>
        <c:axId val="468435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060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4551-3B14-4206-8BE5-7C3CCA2B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3428-F46C-4CDE-A3C9-698944AF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9A4F-96B2-428E-BEB6-14AFB4E3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DA2E-634B-4DC3-A140-F1E72691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A6AB-6AF6-4404-B31C-4E576E85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1521-5493-49E6-B0C8-CE465C3C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E3B4-93AF-4561-9436-55B9638E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E83-9901-40E9-8F8C-A5E7CEE9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50C-B024-46B6-AA0A-CD491499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189-FC1E-4638-BD68-D8AA448D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07F-40C3-4494-9933-8567A7E3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B20D-1364-4562-80F9-1DAFD6B3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7CC70-55E1-4D17-B54F-18BC780DBC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