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18199"/>
        <c:axId val="72401451"/>
      </c:barChart>
      <c:catAx>
        <c:axId val="91718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01451"/>
        <c:crosses val="autoZero"/>
        <c:auto val="1"/>
        <c:lblAlgn val="ctr"/>
        <c:lblOffset val="100"/>
        <c:noMultiLvlLbl val="0"/>
      </c:catAx>
      <c:valAx>
        <c:axId val="724014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18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05A-82A0-4EF2-B897-A5B77459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D6A-4270-4DBE-9410-2EE79A92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A4F4-5B2A-4D05-96B0-B4035880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2863-BC1A-4ABE-8295-0788B5CF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6636-9D92-410E-BDA1-E941614A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1895-124B-447E-BAA0-2C19E838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777-F176-48B4-899B-77089AFB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CB8-C0D6-4A08-A780-4B558343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350D-73D6-423B-9EA0-E0F24EE2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490-2CA8-4301-AF33-B537B58C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0EDA-A767-4B9F-8F3F-D7A14C70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A0E-F6FD-47BD-9D6A-87CFE799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4A473-63D9-4D34-9FCF-A357A6374A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