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91997"/>
        <c:axId val="16907715"/>
      </c:barChart>
      <c:catAx>
        <c:axId val="61091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7715"/>
        <c:crosses val="autoZero"/>
        <c:auto val="1"/>
        <c:lblAlgn val="ctr"/>
        <c:lblOffset val="100"/>
        <c:noMultiLvlLbl val="0"/>
      </c:catAx>
      <c:valAx>
        <c:axId val="16907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1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D63-31AC-45E6-A7ED-5925B150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84C-BCCC-4CD2-8B6B-A27B82E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567-C259-412B-87A7-5E31A81D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2E7-B588-4446-98B4-3D2C03CA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FDF-2425-49CA-A382-413B18E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55F-0E3C-4A0D-AC09-14EF540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32B-83DB-4BE4-B403-8423E45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ADE-10A7-4675-BB9E-F2D19BE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AC1-7706-4828-9550-98BDFA24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2BA-2642-4CAC-B225-A90D7B4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26E-B922-4BB6-93D2-91137A6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475-765E-4F48-8604-0FEB5FA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4BF06-6A68-4E91-BC8D-AEEB9EAED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