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50030"/>
        <c:axId val="87092801"/>
      </c:barChart>
      <c:catAx>
        <c:axId val="31650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92801"/>
        <c:crosses val="autoZero"/>
        <c:auto val="1"/>
        <c:lblAlgn val="ctr"/>
        <c:lblOffset val="100"/>
        <c:noMultiLvlLbl val="0"/>
      </c:catAx>
      <c:valAx>
        <c:axId val="87092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50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55F-8C04-42C0-A9A9-4C4C009F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535-9FCA-4CCF-AC51-0AA318A5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16D-6729-49E6-B4F5-540C4F24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6E5-CD3D-435A-BD20-925F3684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470-3A4F-47D3-98F3-6F0C84D1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014-C27D-4AFE-A371-1EA05705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3C6-FB3B-4A81-A697-9D68D9DC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7C3-E6A9-4C9D-8F65-A9E24EAF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CD3-AA92-465B-96C3-D50330AC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9F0-0F8E-4090-86F1-50AE1B80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B01-4411-447D-9975-2917A2D8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4C6-3E75-45E3-B613-22755607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C5DEA-76C1-452A-A105-D5BFE811AB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