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839146"/>
        <c:axId val="23870346"/>
      </c:barChart>
      <c:catAx>
        <c:axId val="228391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870346"/>
        <c:crosses val="autoZero"/>
        <c:auto val="1"/>
        <c:lblAlgn val="ctr"/>
        <c:lblOffset val="100"/>
        <c:noMultiLvlLbl val="0"/>
      </c:catAx>
      <c:valAx>
        <c:axId val="238703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8391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22FF-7651-422A-8117-2CD73ACC9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B420-F51C-4AA6-93B4-1A83DD2C7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CF2E-5854-439B-8F94-4F06B8511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7FFE-C906-430D-84C9-8722E60B3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2DFA-6069-43B3-A0B7-2704392EF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7DC7-914B-4F2F-B1C3-E50B9F88A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6D72-B9C7-4CC2-BB10-F374B6D8D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6045-D52B-4CE7-B655-46473EEA3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4B0F-C6E0-4804-B4E3-3F7995B12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F4F9-4547-4D71-8AD1-6DA55435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6961-CCA9-4ACD-9BAD-1FB9F286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13A4-702A-4C7E-9E59-C4D97022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FBCB21-5A2E-421D-B00B-2DF39EAB7A4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