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866346"/>
        <c:axId val="4264046"/>
      </c:barChart>
      <c:catAx>
        <c:axId val="48866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4046"/>
        <c:crosses val="autoZero"/>
        <c:auto val="1"/>
        <c:lblAlgn val="ctr"/>
        <c:lblOffset val="100"/>
        <c:noMultiLvlLbl val="0"/>
      </c:catAx>
      <c:valAx>
        <c:axId val="4264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66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422-F57A-42B6-B0CD-577B85A2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306A-9FE2-4473-9235-BEDB4DA4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B2C-7A6D-4DD7-8AA3-0B0964CA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D4B-250F-4B55-A2C4-1EEE8D02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DD8-B0C4-4366-8D7E-CFCF86E8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CAD-F9C4-4CA8-A9B4-650DFF85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C03-84AB-4308-A236-A36C3CF6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87E-B4ED-40BD-91E9-B0DA9F65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5E6E-9294-465B-87F5-1C5C0E3C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1C4-7862-44E4-A18C-2B3E57EF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4E3-376E-4687-8ED4-D71F84D6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B9D-7F12-4B2D-A80D-1EFA8A69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1CAE2-A47F-4C9C-9474-ED48608124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