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536293"/>
        <c:axId val="96034192"/>
      </c:barChart>
      <c:catAx>
        <c:axId val="295362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34192"/>
        <c:crosses val="autoZero"/>
        <c:auto val="1"/>
        <c:lblAlgn val="ctr"/>
        <c:lblOffset val="100"/>
        <c:noMultiLvlLbl val="0"/>
      </c:catAx>
      <c:valAx>
        <c:axId val="960341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362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8815-1E6C-46A4-98DF-10E483CC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A9C6-73EF-4F98-A393-5574121A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3740-1165-4CF1-B4D6-53A88ACA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A9BF-ED81-42F4-B348-C4255F35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E8EA-37D8-4107-8E45-A95D30AA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A4BE-A1E8-4375-A009-974514A3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816D-ED75-4195-8C33-48B2B07D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FC9B-4DF7-4D05-8103-4717A9A3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73E3-691C-43A0-B1B7-9DE40385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F2E9-493B-4CE0-AD05-999E9B06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C948-65A5-49C2-B0DD-43C7175C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44E9-AEA7-4E48-8DC4-6A0E048F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BAE9F-797F-4D25-B372-2BFFD07293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