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10980"/>
        <c:axId val="4221763"/>
      </c:barChart>
      <c:catAx>
        <c:axId val="99810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1763"/>
        <c:crosses val="autoZero"/>
        <c:auto val="1"/>
        <c:lblAlgn val="ctr"/>
        <c:lblOffset val="100"/>
        <c:noMultiLvlLbl val="0"/>
      </c:catAx>
      <c:valAx>
        <c:axId val="4221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10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DAF-BDA0-43FE-9C20-ABBD861B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7CA-B8D7-47ED-8493-0DA9428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E83-D81B-472C-8648-CC405611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1E4-17EF-4E90-82A1-8F2DFCD4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F9A-5ED8-4B62-8DD0-212547D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251-5168-4A65-9E11-CFFFF07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3B8-2C10-4DCE-8A45-C073166F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2EB-5488-4792-B17A-CA4D2ACD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A65-986C-42C9-A45A-494E6CB7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0E3-AF74-4BAC-B26F-55A1F62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5F7-404E-4683-8BEE-DED79BEC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15F-E309-4851-8704-256EF4F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8FA5E-E65D-4E47-A508-43C9FBDB4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