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13397"/>
        <c:axId val="85434578"/>
      </c:barChart>
      <c:catAx>
        <c:axId val="83513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34578"/>
        <c:crosses val="autoZero"/>
        <c:auto val="1"/>
        <c:lblAlgn val="ctr"/>
        <c:lblOffset val="100"/>
        <c:noMultiLvlLbl val="0"/>
      </c:catAx>
      <c:valAx>
        <c:axId val="85434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13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AB8-AEC9-4672-8863-E59BA104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DF3-13FD-495E-B901-186DE49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D1F-1F25-442F-B344-2B8463AE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34B-DB47-421D-AF42-8CA794A5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F67-1191-4BB1-B898-E19C62C2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FFD-57DE-4C2A-8C75-453255DD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4C4-71D8-4D97-9AB0-5EE280E3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906-8BD6-44A5-9533-3162A6D7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6FC-4847-4DEB-B2FB-F5FC5D7B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DBD-0FEA-4010-B042-59C28035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8E5-2AA1-4743-AA0F-405DA0ED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772-C0B1-4367-B84E-2FE4D321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F808E-EBD2-4F07-A9D0-3FBEEA94D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