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70964"/>
        <c:axId val="65598452"/>
      </c:barChart>
      <c:catAx>
        <c:axId val="92870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98452"/>
        <c:crosses val="autoZero"/>
        <c:auto val="1"/>
        <c:lblAlgn val="ctr"/>
        <c:lblOffset val="100"/>
        <c:noMultiLvlLbl val="0"/>
      </c:catAx>
      <c:valAx>
        <c:axId val="65598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70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E51-0CAF-48A2-A66C-61CA4A43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BE8-AE55-4996-81E9-FA295B96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29E-3F7B-43EA-8EA3-8AA53455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5D2-3350-4401-9CA9-8817912C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E8F-C12E-4A4E-AA38-2FC0AC6C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755-9B07-4E72-82AD-4D1AC554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21F-43F9-401E-A03F-9378A957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BE4-1079-42A4-9923-1996136A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6F3-F88E-43C9-9177-9BFAD397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6A8-4A3B-40FE-82AF-54DBEF18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C8A-8EE2-444C-B907-2DED5297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13F-B5C0-40A8-8FAC-9303FFE6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26655-0FFD-42B6-A865-722EB7FFF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