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07229"/>
        <c:axId val="73655234"/>
      </c:barChart>
      <c:catAx>
        <c:axId val="258072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55234"/>
        <c:crosses val="autoZero"/>
        <c:auto val="1"/>
        <c:lblAlgn val="ctr"/>
        <c:lblOffset val="100"/>
        <c:noMultiLvlLbl val="0"/>
      </c:catAx>
      <c:valAx>
        <c:axId val="736552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072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DA8-685D-49F0-B7E3-6EFD9524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573-A396-42FB-9EDD-3BC7D920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3DB-BEFA-450E-B149-F3F14279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EE4-98F0-4BF9-B8C3-7EC130AD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F95-593D-446C-9231-03F9312C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644-F2B4-413D-85DB-546B20D9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B45-165E-43A5-99B7-A5751900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CC31-0BC1-4221-A0E1-619CCF32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57AE-91D4-4429-94A5-D4CFC485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1FED-10E2-4180-A4E8-2E78858E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156-31FE-443C-990C-5BCB99EC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21E-7C52-4647-AB26-1F4DD9D9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9875D-926B-43D1-A030-44E3FF1C9E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