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83737"/>
        <c:axId val="36003771"/>
      </c:barChart>
      <c:catAx>
        <c:axId val="29283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3771"/>
        <c:crosses val="autoZero"/>
        <c:auto val="1"/>
        <c:lblAlgn val="ctr"/>
        <c:lblOffset val="100"/>
        <c:noMultiLvlLbl val="0"/>
      </c:catAx>
      <c:valAx>
        <c:axId val="36003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3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8BC-8D26-403A-B620-379C88AE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E84-9318-4EBB-A3BE-A6C68BD6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DC6-FE8B-4359-8167-F709BFC8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5BD-2A0E-478F-AD7C-DEC6D117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E5C-F65F-41EA-92F1-A274ED59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D96-A215-4F82-B477-B595254C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45A-2DDF-4CA2-A79E-DC70548B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3B1-92EF-4150-B59C-09DFCF86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889-529E-435E-8713-5A30F5D9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A8E-8031-4750-BE6E-2BD38E4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332-7A14-4546-AA7B-C4A6EF6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755-C53A-42B2-8A5A-8343175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55DFE-F6EA-457D-B4F2-8FE40CC2EC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