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17508"/>
        <c:axId val="68355401"/>
      </c:barChart>
      <c:catAx>
        <c:axId val="16417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55401"/>
        <c:crosses val="autoZero"/>
        <c:auto val="1"/>
        <c:lblAlgn val="ctr"/>
        <c:lblOffset val="100"/>
        <c:noMultiLvlLbl val="0"/>
      </c:catAx>
      <c:valAx>
        <c:axId val="68355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17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0A82-E993-4943-A1CE-13A308E4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144-A89D-40CA-8941-8DA947AD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C13E-C458-4B85-9D92-F03DFF3C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1FF-CEAD-4FE1-97B1-292637BC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B83-25D4-4634-AB82-9585467D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B0D-3B7A-4369-BAD6-4EB5E035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334-E5D3-433B-87BF-B6B3EE76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95C1-013D-4D9A-9BEC-10DED167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F48-E830-47DB-9810-D7F5E901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294-8128-49F5-9F5E-37D5ADBF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1CDC-8381-48C2-9195-72AA3D6B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AC59-33B7-42FD-BE2A-19058BB4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61EFE-0496-46A0-983F-A30B82DB47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