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3920"/>
        <c:axId val="91948282"/>
      </c:barChart>
      <c:catAx>
        <c:axId val="3563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48282"/>
        <c:crosses val="autoZero"/>
        <c:auto val="1"/>
        <c:lblAlgn val="ctr"/>
        <c:lblOffset val="100"/>
        <c:noMultiLvlLbl val="0"/>
      </c:catAx>
      <c:valAx>
        <c:axId val="91948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3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610-EEC2-4A45-B9D0-C31BBB26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BA3-44BB-4D19-AD22-D162095A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C84-16B1-48CB-B83C-D539A8D3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CAA-D8E5-4A7E-A9D4-FE6DD863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71E-D2B5-4608-98F5-823EB0AF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ACA-790B-4A57-B463-30EC2782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744-21DE-471E-BED6-4F8876C2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931-21B7-41AC-A66B-05758076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520-1142-4394-A59F-9FFF97A7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555-516D-43D4-A4C8-FE56AA9C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747-0D80-43B1-B713-9FF2109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61F-AFC2-4A82-965E-629FEB8B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D5166-79D1-4F3F-AB57-BE75A251D4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