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53338"/>
        <c:axId val="27020262"/>
      </c:barChart>
      <c:catAx>
        <c:axId val="91853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0262"/>
        <c:crosses val="autoZero"/>
        <c:auto val="1"/>
        <c:lblAlgn val="ctr"/>
        <c:lblOffset val="100"/>
        <c:noMultiLvlLbl val="0"/>
      </c:catAx>
      <c:valAx>
        <c:axId val="27020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53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489-EDBD-4C56-A777-6A35E054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AE5-66F9-4896-AD81-ED3C01E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6E0-3722-4201-BD16-1FE1465F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B9E-573F-434A-A8BC-77190280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8E0-A2AC-40D7-A82A-447F44E2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25D-7FC1-48A0-8346-E78C82F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64C-96B5-4C90-B244-9762017A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00F-B19F-44CC-B9EC-F701DD98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28E-8E64-495C-861E-111C2718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342-2583-4686-8C71-21B14B1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729-3A9E-46B1-8CA1-823A89A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D12-37D7-4FBC-8DF6-6D693554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CCDBC-C77F-473C-8226-569EEF89F5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