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43431"/>
        <c:axId val="37992877"/>
      </c:barChart>
      <c:catAx>
        <c:axId val="73043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92877"/>
        <c:crosses val="autoZero"/>
        <c:auto val="1"/>
        <c:lblAlgn val="ctr"/>
        <c:lblOffset val="100"/>
        <c:noMultiLvlLbl val="0"/>
      </c:catAx>
      <c:valAx>
        <c:axId val="37992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43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625-06CC-47A1-B362-E67C2A77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338-51EF-4F9D-8F9B-B8C37B4F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61F-9E44-43E7-8191-71E9F02C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9B6-F41B-4F59-89D5-1332EFCE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6C6-3097-4054-8961-33461027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D83-ED88-455B-883D-52CE57DD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537-851A-4010-9827-D7E4FD2F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593-A712-4640-A5F9-39486CDF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FE7-1CE6-44DF-9B2C-962B7833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FCF-A1A0-430F-9C19-24CABAA5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68F-6E76-47E1-8FFB-D5C6D0C8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814-9A70-433F-9189-E398E9E3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67C4E-D204-4C7A-AE0C-ECEA4B1AF6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