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23905"/>
        <c:axId val="11231886"/>
      </c:barChart>
      <c:catAx>
        <c:axId val="28823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1886"/>
        <c:crosses val="autoZero"/>
        <c:auto val="1"/>
        <c:lblAlgn val="ctr"/>
        <c:lblOffset val="100"/>
        <c:noMultiLvlLbl val="0"/>
      </c:catAx>
      <c:valAx>
        <c:axId val="11231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23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C34-7667-4425-8A90-039B74CF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436-F95D-4A2A-89B2-21652C3F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416-E889-4CC9-A660-90646075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6A9-7024-4F2C-B47C-71F49DD8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237-83F9-47CF-9EAF-99CA8CBD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584-35B0-41DE-8CA9-EFBAA8F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BE-FF73-46DF-9AD5-C83E2BB0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3E5-7BE4-411C-BCE9-52486CDF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616-9B85-4606-8031-810B67C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3FE-6982-4BD2-AEC5-CDA8822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71C-C4F8-44FE-811D-D35B379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BA3-5077-4467-AEAA-B39E0B9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53B8A-EB2E-4320-80C4-12D7D94230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