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77060"/>
        <c:axId val="18838179"/>
      </c:barChart>
      <c:catAx>
        <c:axId val="75877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38179"/>
        <c:crosses val="autoZero"/>
        <c:auto val="1"/>
        <c:lblAlgn val="ctr"/>
        <c:lblOffset val="100"/>
        <c:noMultiLvlLbl val="0"/>
      </c:catAx>
      <c:valAx>
        <c:axId val="18838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77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CB1-D1AC-4ED4-8080-60CD5C62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B86-0CCC-408F-9A9F-96DBAE16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2A5-2019-4DE2-8818-E8567281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CD8-3256-4E7E-A789-3EC10149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758-50CE-464B-887D-D3FEF900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107-2E8C-4C25-B55B-1BC1C63C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3A5-87C9-429C-BFE9-6C3EFFA6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62F-DFA1-4E2E-ADBD-077A2CFF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857-36BC-4BE1-B969-A2466CEA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9C3-AD5A-4A4E-BE19-D89E14FB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124-D088-4B3F-BB86-71D18538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760-FCED-4C7D-A442-E86D769D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208E2-5175-4C3B-8143-8FB4D51370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