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28667"/>
        <c:axId val="24763019"/>
      </c:barChart>
      <c:catAx>
        <c:axId val="16828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3019"/>
        <c:crosses val="autoZero"/>
        <c:auto val="1"/>
        <c:lblAlgn val="ctr"/>
        <c:lblOffset val="100"/>
        <c:noMultiLvlLbl val="0"/>
      </c:catAx>
      <c:valAx>
        <c:axId val="24763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28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5AC-51C6-4227-BEFA-8FCADF81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3EB-93E5-4EB0-85B3-5130826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F02-8EFE-451B-94EA-48045DA9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B38-E9A5-42D9-8C08-E7FF545B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7D6-9C46-4253-97AE-3DD69407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93E-2E3F-4C8A-85CF-2A28EE5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5AD-BB30-4C63-B79D-684EA61D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6DF-29A7-486D-9202-06401A3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A0D-804C-4037-8B53-8BF10502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5A2-F63D-437D-BB41-0A20CC7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2C8-0BA5-4253-A5B1-400F77F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74E-F5B9-40DA-ADEB-3833F8F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89681-1842-407F-9CBD-8672C215BF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