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77161"/>
        <c:axId val="11911610"/>
      </c:barChart>
      <c:catAx>
        <c:axId val="99977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1610"/>
        <c:crosses val="autoZero"/>
        <c:auto val="1"/>
        <c:lblAlgn val="ctr"/>
        <c:lblOffset val="100"/>
        <c:noMultiLvlLbl val="0"/>
      </c:catAx>
      <c:valAx>
        <c:axId val="11911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77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DC60-FD88-41FC-894B-5C103BFB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650-0973-49CD-8343-05E1593C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75D-D0A1-4E06-91B7-27C8B007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691-7380-48F0-85FD-18E6AB5D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940-F152-48C7-8516-B5B7116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EFF-46D8-42E0-A32C-02E7C8A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4D4-7EEF-4DD6-BE78-02474CD7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3E6-C98E-40F1-9930-3A037B0E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A88-396E-4A05-B756-ED2F79D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328-CD75-4247-8477-E014058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B0F-CE04-4784-B109-DC4F591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0CD-0FF8-4680-A64B-8DB2E802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B2A13-EC8A-4AF3-AE70-0EA4817BC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