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567925"/>
        <c:axId val="95914020"/>
      </c:barChart>
      <c:catAx>
        <c:axId val="635679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14020"/>
        <c:crosses val="autoZero"/>
        <c:auto val="1"/>
        <c:lblAlgn val="ctr"/>
        <c:lblOffset val="100"/>
        <c:noMultiLvlLbl val="0"/>
      </c:catAx>
      <c:valAx>
        <c:axId val="959140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679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91F-0F17-4987-89D8-D00106CC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89F4-6ECB-4D2E-BA7F-E32DE115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4A7-193C-452A-8A8E-712C87C6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268-2A96-4484-B3F3-7DA70FC1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231F-CA16-4926-809B-18CFC674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3F1-B09C-4BFF-8A97-A1311AE8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C442-A13B-4D99-B82A-AA67E7C7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D962-07A0-4956-8AC2-FC33A712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ECF-E36B-4EE4-9D84-FB34D471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8625-802A-4419-A098-08FBB468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DFFD-649B-4143-B7EB-7A0CE7EA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6437-6365-4E17-AA52-6399CDD4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A1D77-9D07-439B-84B0-6E1A106C35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