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69554"/>
        <c:axId val="25493092"/>
      </c:barChart>
      <c:catAx>
        <c:axId val="21569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93092"/>
        <c:crosses val="autoZero"/>
        <c:auto val="1"/>
        <c:lblAlgn val="ctr"/>
        <c:lblOffset val="100"/>
        <c:noMultiLvlLbl val="0"/>
      </c:catAx>
      <c:valAx>
        <c:axId val="25493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9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5A0-C4FA-43C5-95C5-CAA2F24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AA2-5E07-4B9E-977F-406F56B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658-D43F-42BA-8F21-76EB699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0DF-332C-4BC2-9D8E-B2D25FFF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6D1-C783-4653-B04F-F5E11AE5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074-1CC6-4A1E-B17C-C4E43380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89A-CDDA-4886-B200-D2B754C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2EC-77D5-4FE4-AB7B-8268E3A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0D9-B622-4DF3-B0ED-1BB596A9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8C0-EBB6-47C4-9A39-331BA56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B56-9BDD-434E-8294-E60FA3B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EEF-A42B-45D9-851B-8C89292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36F1D-CEE8-4FBE-A14D-51C88370B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