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23780"/>
        <c:axId val="58036998"/>
      </c:barChart>
      <c:catAx>
        <c:axId val="38223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36998"/>
        <c:crosses val="autoZero"/>
        <c:auto val="1"/>
        <c:lblAlgn val="ctr"/>
        <c:lblOffset val="100"/>
        <c:noMultiLvlLbl val="0"/>
      </c:catAx>
      <c:valAx>
        <c:axId val="58036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3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3F2-68A0-4C54-AEA1-3A3746D6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3B8-86AF-4F15-969E-86EE05A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720-54D8-4110-8DDC-467B3D36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9EF-F0F0-41DD-8DC9-B44F963D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15F-A74A-4BFD-B0DE-FFF9A26C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3C8-F31B-4F0A-BAF1-92ECAF1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E8D-B062-4FBE-A4C1-C70F021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142-8E8D-4951-807A-75F688F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C58-BDA6-4E63-880C-D23ABC5E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772-8212-485E-8246-88989E9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6EF-283B-4406-95A7-C2929B2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5D0-1639-48C0-9D0C-DD96245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17292-2D55-4232-A155-93B8DF752C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